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EE2-A80C-4125-A0FE-6401221F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CB9-2CDF-4A46-B5AD-8FBA76C4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8F834-C74B-4E5F-A888-61F88A50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9BD76-A08B-475F-8948-76250D6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0B27D-E2B1-436F-BFE0-AB9E68C0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4A65-A0E6-4803-AB89-C64DEA5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97D54-7ECF-40AE-883E-7EE9CEC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C5CF2-D7F9-46F2-BFBB-ED73D51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D44AF-2753-4717-B01B-98A3BE9B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6D3C6-E190-4234-82F2-42AF2108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30894-CE0B-4CF9-A03A-3CDA9FA0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03151-6B1D-4F59-80FA-FAACBCE6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507-1872-4142-8740-395FF872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7E177-DA3F-4049-A0C9-49425524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FC75F-7CD9-4AD9-B623-853EA8D5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52F77-0CCB-4963-941C-7BF6562C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017FD-0F96-46CB-8FDA-9ADA479F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31802-5D45-4CCB-8E48-92CCA78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A4047-B9D4-420A-9418-5205B2B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B6478-AFF1-47B9-826A-8EE657A8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0D557-2413-440B-8324-72181D6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8B369-537D-47FE-A44A-3F29B9F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7C947-1F51-4E77-A171-2D43F31E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022-6FE7-484D-87E2-B78E7616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E4EE-45C5-4B37-B9D1-604849AB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0F7F7-B1FF-46D5-8A94-7A124161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D2F45-DB35-467B-BAD1-26B9AD74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F23B7-835D-49D1-93F6-47DCAD17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A65F-ABC1-4B7D-BD4C-96004059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4D78C-0AD3-4158-9102-526EEDDF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E1732-2D3D-46BA-9968-54F4736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865A9-789E-456C-B824-8C78358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6B95E-4C03-4CAF-8446-E8C42AC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A1E6-B20D-41BA-B675-BBB6E404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461-2ABE-40B9-AF2E-F8BBF2D7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F83D5-453C-4D88-B5E5-B6F16260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703B3-8A51-483F-B36B-8D6AE398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ABCCB-5A26-4361-B624-C93B73E4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B9DE-200F-406F-8DDF-7EC462E7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BC3B-9ABD-4C69-9722-B46501A2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3259-CAE5-4C32-8F38-9DE1E7C8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A2F4-0364-4C6B-9760-F6596150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9912-B957-461C-8D0A-E6EAF349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75B0-D9CE-4999-93A3-A41C352A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CF7-3278-44AA-937D-6065F266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4C76-264E-418C-A187-96895AFE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2EDF-7506-4056-8C63-29418DBC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2073-42C3-4BB5-9279-E8D97CD8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8552-05DE-4FEF-A0D2-981D9F27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2C56-5E4A-43E1-B6E4-4BC64D4D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9A51-0647-42C4-BEAF-96F16DD4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F13A-70BA-4442-98F6-1348EE9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508D-2311-48B8-B0E4-FDB23B6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B7D2-9244-42B9-AA6F-AD16B9D3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4837-C89A-4BB8-8C45-CDBD18D7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0B4-6E9E-4CB0-9B33-4E44C30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7701-D097-42DA-B2FD-CFDB984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3B5C-0B52-4435-8F56-61D7D43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4EF1-0078-4B8D-A69F-A84C6982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088E-D8A9-4A9F-A03C-E3257E5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78B8-E875-4A2C-BD13-75391A91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34A3-4459-4C21-9E42-781A25FD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B75E-F0B8-41A5-A113-BB58E0A5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71B0-B029-4066-AA12-DD384DC6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C011-8D53-4ED2-8793-B1C1C757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84D4-7A30-41F3-8F23-B868E859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4B8-158E-48E8-A126-B5EEE7F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CB2BE-07AD-4979-BCC2-1C0BA18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3A49-07F1-4000-B46A-9D5931B7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01CA-A34F-461A-A13A-835D998A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E7F6-F1ED-4920-9C41-C27198B2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B75D-4C86-494C-874E-A31A083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160A-0F49-42CD-82AF-4CE0E6AD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4725-E03F-4313-B5D7-2F4ABBA4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D84E-5DF2-438A-85ED-D74BE8A8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A2F0E-BC2D-4730-B5FF-46F3A60C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29B4-56F7-45C5-A36F-8B01D796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14A-8CE0-4951-A990-50B92159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56A4-03F9-494C-9A40-88A6D68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3777-35ED-49AD-864E-C7C0D1BF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B06F4-4F88-4663-8604-5E4D3759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72EBB-3CB9-4010-AC67-A298044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BBA3-2CCA-4AAD-A9AF-CF2E8F3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12A81-BA0C-4EAE-805C-617C7D8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9D5B-4C8B-46C7-988E-A5F2CBA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83B00-0E1F-4596-BA72-2AC17681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48DA-1FE7-47A4-88FC-FE25E701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73BF-099D-4644-A28F-A452C6D7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A97-7BD6-4AD8-8516-6D194C64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F258F-8B6C-4CEA-ABB0-A6449046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B5D5-2103-4A7D-8F4B-D5805097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B04D-FDE2-444D-A3C6-2631545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D9C77-A326-4859-A8A8-2032402C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CF16-7FD3-4A65-8516-B4A3CCEC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8A7C-6C17-4A84-B70E-70F2038C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8EA7-9B92-4895-A3C4-53415FB5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12AF-E06D-4D79-A305-2CFAB53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48DD-3C61-46AB-B493-82B304A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C12B-8B27-45A3-A682-25A6A1B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F75-69EC-4B64-8E34-BA876AA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7D32-433E-4460-BCD6-08193986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6478B-070F-4C9D-A34F-3D47522A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70875-3FA3-4167-A93D-844BD26A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9F0C-6A0B-49EE-8FD7-2008A393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5FE1-E361-4F87-8500-EA204AA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32049-E4EA-4830-894F-F945FCBC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1C3C1-2663-4A97-94B3-DA553B50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3FAE-768D-439C-8873-743A76D1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38146-1D19-4590-A6AA-1F8617F9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9DCA7-3195-4EC6-AAF4-A8393DE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12C-BF9D-4F46-9554-F88FC37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DFF8-BB98-409D-A4DA-27D2DA2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058EF-8D9C-4F73-BD70-105A86F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E4B7C-43FC-4EB9-9C54-04CD4ADA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271E-BBC6-41BF-BB90-C8000488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890B-DAEC-42E5-BC94-64A6ED13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AAFB7-2F2E-4EA3-AA6B-84589B33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4AE5D-24D4-4D79-B532-4134B39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C5BA9-3E23-4460-9773-8CA6E885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2687-1265-47D6-B137-8EBAF9F5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456B-2F67-47D6-9C25-64A4265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DB9-1D9E-46D8-AF5C-1593508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4EC7-2DAF-4C78-9D59-427DA847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8F97-A33A-4799-A2B8-D18E79C2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52AF-D0C1-4863-96D3-C20431D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B5C4-E3E5-4752-AEFB-FD15D730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EA916-B25F-4E5B-B6E3-222DA04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7947B-38AF-46A0-BFC8-CC700276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494C-3829-4518-A445-9959A515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A2F7-50DE-4E0D-9244-48210331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EFB56-8588-4A4D-82E7-8680FAF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87906-9722-4A2F-B2A4-184D0D41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0CA2-BD5C-4140-8702-955BBEA8078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80C-A077-4935-B266-81C725C877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88BC-69F6-413C-AE0B-7000D806823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2B0A-F74E-4BD9-8B0A-714EE04CE9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904F-1AA0-4747-944F-B5B3CA0C29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F70-7674-4FCD-ACB0-84FC56524E1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B30-4383-4E31-95EC-79E99B68492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26C2-0313-4336-B2E2-2251ADCB124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6D3-1501-4E6C-BFB6-46D201F5FBA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A4AC-7DE9-4185-97A2-C12EDADEAB7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AB8-F68A-4120-84EC-1A43939D67A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Zakon po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pomaknuti teški kamen vlastitom mišićnom si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vadi čavao zabijen u das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radi klackal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809880" cy="297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poluga mmx"/>
          <p:cNvPicPr/>
          <p:nvPr/>
        </p:nvPicPr>
        <p:blipFill>
          <a:blip r:embed="rId3"/>
          <a:stretch/>
        </p:blipFill>
        <p:spPr>
          <a:xfrm>
            <a:off x="533520" y="3581280"/>
            <a:ext cx="3657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280" y="81864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Polug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3"/>
          <p:cNvSpPr/>
          <p:nvPr/>
        </p:nvSpPr>
        <p:spPr>
          <a:xfrm>
            <a:off x="1371600" y="1447920"/>
            <a:ext cx="61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vrsto tije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osloncem oko kojeg se mo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kretati zovemo polug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5"/>
          <p:cNvGrpSpPr/>
          <p:nvPr/>
        </p:nvGrpSpPr>
        <p:grpSpPr>
          <a:xfrm>
            <a:off x="2286000" y="3276720"/>
            <a:ext cx="4449600" cy="2517480"/>
            <a:chOff x="2286000" y="3276720"/>
            <a:chExt cx="4449600" cy="2517480"/>
          </a:xfrm>
        </p:grpSpPr>
        <p:pic>
          <p:nvPicPr>
            <p:cNvPr id="470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0" y="3276720"/>
              <a:ext cx="4449600" cy="19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Box 6"/>
            <p:cNvSpPr/>
            <p:nvPr/>
          </p:nvSpPr>
          <p:spPr>
            <a:xfrm>
              <a:off x="3283920" y="533448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Arhimedova polu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4"/>
          <p:cNvSpPr/>
          <p:nvPr/>
        </p:nvSpPr>
        <p:spPr>
          <a:xfrm>
            <a:off x="0" y="1143000"/>
            <a:ext cx="79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avnoteži polu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438280" cy="3305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1"/>
          <p:cNvSpPr/>
          <p:nvPr/>
        </p:nvSpPr>
        <p:spPr>
          <a:xfrm>
            <a:off x="312120" y="5105520"/>
            <a:ext cx="8570520" cy="11912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luga je u ravnoteži ako su umnošci sile i njezina kr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 obje strane međusobno jedna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Slika 5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"/>
          <p:cNvSpPr/>
          <p:nvPr/>
        </p:nvSpPr>
        <p:spPr>
          <a:xfrm>
            <a:off x="592200" y="7858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kon ravnoteže pol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838080" y="1371600"/>
                <a:ext cx="31528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TextBox 6"/>
          <p:cNvSpPr/>
          <p:nvPr/>
        </p:nvSpPr>
        <p:spPr>
          <a:xfrm>
            <a:off x="4652640" y="4038480"/>
            <a:ext cx="358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ak sile (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daljenost hvatišta s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 oslonca pol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301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2"/>
          <p:cNvSpPr/>
          <p:nvPr/>
        </p:nvSpPr>
        <p:spPr>
          <a:xfrm>
            <a:off x="344880" y="1523880"/>
            <a:ext cx="8344800" cy="1601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ja sjedi na klackalici 2 m udaljena od oslonca. Njezina je tež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20 N. Koliko daleko od središta klackalice treba sjesti Majin t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ja je težina 800 N kako bi klackalica bila u ravnotež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3"/>
          <p:cNvSpPr/>
          <p:nvPr/>
        </p:nvSpPr>
        <p:spPr>
          <a:xfrm>
            <a:off x="4191120" y="3276720"/>
            <a:ext cx="44193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· 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· 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·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 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20 N ·2 m / 800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0,8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0" y="3657600"/>
            <a:ext cx="3867120" cy="2057400"/>
          </a:xfrm>
          <a:prstGeom prst="rect">
            <a:avLst/>
          </a:prstGeom>
          <a:ln w="0">
            <a:noFill/>
          </a:ln>
        </p:spPr>
      </p:pic>
      <p:pic>
        <p:nvPicPr>
          <p:cNvPr id="483" name="Slika 1" descr=""/>
          <p:cNvPicPr/>
          <p:nvPr/>
        </p:nvPicPr>
        <p:blipFill>
          <a:blip r:embed="rId2"/>
          <a:stretch/>
        </p:blipFill>
        <p:spPr>
          <a:xfrm>
            <a:off x="304920" y="107460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3"/>
          <p:cNvSpPr/>
          <p:nvPr/>
        </p:nvSpPr>
        <p:spPr>
          <a:xfrm>
            <a:off x="-97920" y="1676520"/>
            <a:ext cx="92577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polug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je poluga u ravnotež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e li poluga u ravnoteži ako 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600 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2 m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400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 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ko djeluju sile na dvostranoj poluz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ji alati i uređaji iz svakodnevnog života djeluju kao dvostra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polu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6.   Kako djeluju sile na jednostranoj poluz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7.   Nabroji alate I uređaje koji rade na načelu jednostrane polu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Slika 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5:51Z</dcterms:modified>
  <cp:revision>50</cp:revision>
  <dc:subject/>
  <dc:title>Slide 1</dc:title>
</cp:coreProperties>
</file>